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4301-F6E4-42A9-AE83-436F14944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3ECC-CFCB-4D6B-A57B-29395938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A822-4F0D-45CA-A8AC-4858B2B78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0AD5-AE79-44A0-860E-9A4A24458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D448-41BD-4521-926E-DAC96C49C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B6B8-5C58-403F-848F-3A3DDA1B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59E7-3DDC-4958-84BB-58727686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FCA3-3E95-4106-A1BB-8CE106CB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4B34-7A57-48BF-B80F-795F898F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D7F9-15E8-43F3-9528-892F8420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9A33-C39E-4611-AB5A-F0E6A386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CADE-2D32-4ECD-AD21-BE725F19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27BA-A473-4097-933E-4F593EC6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C81D-86DD-40CE-9B94-044D24D6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D18D-277B-4ED6-97FB-4B34AEAD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49F3-0FED-49D5-ABE7-992FD5639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67EC-5BD1-47F2-955E-356DF9F6A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9104-F209-4E72-956C-26F66C3B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F7BB-4FFE-4EE2-9C82-3D24F4E1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04C8-CE67-4250-80F6-429AA743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3DED-5DDF-452C-8BCB-DD7E0A59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CF94-9542-4ECD-A362-01625AB2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9BA2-EB02-48BF-BF37-968DF985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5AB5-D62F-4DF1-8CF5-BA54D0D0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44F8-F088-4D4D-A070-14F33C04E628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3FAD-F6E2-416D-B99E-BBBD70529683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egal Responsibiliti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dical Law and Ethic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272160"/>
            <a:ext cx="863748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.  Competent adults are liable, or legally responsible for their own acts, both on the job and in their private lives.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88153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.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mployers are liable for their employees in regards to: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. Building and grounds—adequate upkeep to prevent injury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. Automobiles—if an employee uses their own car or employers car, the employer must be adequately insured in case of an accident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3. Employee safety—comfortable and safe work environment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348480"/>
            <a:ext cx="863748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I. As professionals, we are responsible for our actions, (or failure to act) under a reasonable standard known as Standard of Care.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fessionals are held to a higher standard and may be held liable for negligenc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ealth care workers must be careful in the duties they perform.  If they perform duties commonly assigned to those with a higher level of training and expertise, they may legally be held to a higher standard of care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-152640"/>
            <a:ext cx="863748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III. 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Privacy, Confidentiality, and Privileged Communication 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228600" y="1980720"/>
            <a:ext cx="904392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16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. It is a healthcare professional’s ethical and legal duty to safeguard a patient’s privacy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. Confidentiality is the act of holding information in confidence, not to be released to unauthorized individuals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. Privileged communication is information held confidential within a protected relationship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-533520" y="152280"/>
            <a:ext cx="92203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. Medical office confidentiality should be maintained: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 Do not release information to a third party without a signed consent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. When talking on the phone regarding test results, be sure no one else can hear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. When leaving a message on an answering machine just tell the patient to call the office regarding their recent appointment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 Do not decide confidentiality on the basis of personal approval of thoughts and actions of the patient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E. Confidentiality may be waived: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1. If the patient sues the physician for malpractice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2. If the patient signs a waiver to release information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02:37:50Z</dcterms:created>
  <dc:creator>Lorie Jones</dc:creator>
  <dc:description/>
  <dc:language>en-US</dc:language>
  <cp:lastModifiedBy>Administrator</cp:lastModifiedBy>
  <dcterms:modified xsi:type="dcterms:W3CDTF">2009-06-09T17:22:19Z</dcterms:modified>
  <cp:revision>6</cp:revision>
  <dc:subject/>
  <dc:title>Legal Responsibilities</dc:title>
</cp:coreProperties>
</file>